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7AE6FE-3617-4721-9192-59D5FDB8C0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886D36-1E13-4613-A99A-4CCA65E292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ABC207-BB5F-4300-A922-7D9E5A66D5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DC560E-D4A6-40F6-8BD5-7C949426E4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A4DF08-6F24-4254-976E-DF535338AE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83B17E-978E-497E-BCB0-1ED0586E2D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732600-EF0B-404F-BDD2-92E54C1649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1884CD-1834-44CA-9C49-E561996946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C81783-AFEA-4780-A5DB-D962C69B65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DFC02D-B8E9-4014-83B4-28A67286BF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DD2343-1B2B-4BFC-8C4E-24CC919601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0413D7-A64E-44E1-8558-4985705F9E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93F538-1D5A-4A5F-8F0C-3CBA01DA36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6D2BCD-8DAE-46BE-B0BC-CC20E6C4DD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49FA18-7092-4E55-A6D8-1D8E8E124E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899C5F-22DB-41A0-99D3-6153271A05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8E1C08-89AD-4F20-AA52-43B3A7240D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D6C83B-D48E-409F-A2EB-2BDF544512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F38D38-4117-4997-87D1-FA34DF1274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0C586D-91DE-4978-84E7-33F41B537C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6B9637-5BB3-4A84-8784-C55EE3D08F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E913D5-EB5D-4F00-8192-42306AA21F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0FF75B-E041-4220-9A49-DC933FB2C4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D5C3E7-813A-4B6E-AB27-98F3FA9CCB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8C19B-5A25-4318-B966-9BC71D79C12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650EF-AEA9-4FF2-AAFA-3FF4B5342F2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48AE5B1-D379-480D-90F8-BF3B705F6D1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0D23E9A-A8F0-487A-B1F5-A753DCAAB1A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0CCDBD-49C0-4BF4-BCD2-E4403EDEE74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63DC00-76AD-49FB-9977-5884D30DBD9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C6EBF4-414D-4759-A2D9-64CA7211471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D9A8BD-2B1E-4ECB-AAC5-D21F7019AD7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BCB6D5-7470-404A-919D-06318F02751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058CCA-8127-48BC-9280-A6B2ECAA7BE1}"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C78059-0D15-4747-B25A-848C7FB2E5D6}"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1DDE26-D674-47E6-96E8-FDB55A7ECF37}"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0EBE3F-9E36-433F-93F0-A72BBDB28B59}"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FD8B65-69B6-49EC-80AF-DF375F1106A0}"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F922F3-5BE6-4473-B7D2-4C1B8783528F}"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88B639-5F93-4510-96E6-32E98C14BB3A}"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121D52-9212-49DF-8D93-D5697464C716}"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847A5A-27E7-40D9-9015-EF58CBFA54AE}"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1E5A36-C47C-4270-A08D-D4B0B73156A0}"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BB454C-77FE-4544-B71D-80FF3F049F9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AF80C5-CE5B-4B39-A948-BADD48820273}"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C6D8CE-D26A-4CBA-8B9C-D919FBB45E9B}"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455E3D-88C6-4313-8365-761629B7A241}"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89FE68-81A7-4732-A023-4F9D503C3C37}"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D5F573-967D-4765-846E-78C09A745279}"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DA58ED-B345-4D38-BCCA-3BF6A4780870}"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19D736-832B-4082-8A4F-215FB46DED3C}"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E2C50B-B06F-4A0C-9348-3A06BB26D930}"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509FC5-4C6D-4EDF-8F4B-E558CDBB6D38}"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A99C93A-4B30-4639-8B78-4C93452BBEBC}"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BA4EB9-65EB-4240-98D4-DAB9F6A4AB2C}"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F5BA96-9C2C-43D0-853F-6F0D29C58D8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082CB7-9187-424C-BB9B-50F1723C0FC5}"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AE5049-4694-40FB-9C46-DA2AC2EE8C0C}"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FF45F5-8B60-4E70-BB11-5F1E9ACB539C}"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E056EE-0644-4027-B6E3-3A405F07B5A1}"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C59167-8035-4EBD-9D58-DB91C5016B8D}"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2B09AB-BDAF-4E6B-A73B-5222CA8334BE}"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E37864-F5BB-4319-B5CA-E5C7440E7F05}"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FA5B9B-BF24-4BC1-82A3-57745CE9B700}"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1E7152-5772-4284-8338-531B3E8A66BD}"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29D377-4924-437A-8F4F-A1B5B21EA47B}"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C1558A-A214-47E2-8040-42139BB15589}"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BC559C-785D-4B47-9C27-1518723E5F26}"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9DE493-1901-4C3C-A4A8-67E26BBD4B2E}"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9F1117-78E2-4A13-9E39-4395BC36935C}"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F3F37D-8386-4D53-8CD8-4F868CBB4AD0}"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C13FD9-A10C-439E-B3AF-023900CCB108}"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350822-5688-4E2D-A3C5-060999FFD5B6}"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1C3393-48E5-417C-AD78-EE0945DAF81E}"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F55EFE5-B071-4F50-B0F2-FEDFA5D47FD5}"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8E15F9-58FF-4BF9-8074-34E4988DE8BF}"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690323-07A4-4718-AC4D-7EBC4C3396EA}"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F2487FC-7BC9-40BD-AEF3-BFEDE7A62A5A}"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FE2D5C-5ACA-429F-B5FC-59CD9111AA5B}"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EA061C-688B-476E-A17F-1078AB68F2E5}"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044BFD-12F7-409C-B0EA-04279BC80A95}"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845499-B534-4126-8A1D-41DF27A73A84}"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42C996-3F62-4956-BF51-62021A649DE6}"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D6FD24-7863-4F9C-9D4B-E1588B81EA9B}"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0B7D0D-4922-4F20-B4C6-7B53A7153416}"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EC540EF-6AE3-4AD5-AC1E-EFBEE36957FB}"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C0CFA2-7471-4629-AFFD-38017C895618}"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C4FCFC-04A6-4692-83C2-E4218254B617}"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0FF065-F02A-41A8-8713-127ADE549911}"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F2AB0B-2588-4320-9CBC-6A2A506023A4}"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81AA92-74B3-4139-BAA1-A2C0346EC0B7}"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A58718C-543F-4472-9869-FA0C32001EC4}"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3DE549-AA77-4BD0-902A-F1241FD750B5}"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546FC7-24DC-4BAA-AD57-3A563CCDEB32}"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4F5212-D358-48C3-8D06-FE57CFC2918B}"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75334C-B5E1-4AD4-A10F-81D68BC4B2E7}"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AEDF2EF-6921-4A83-BFEC-8A65A447E655}"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9F48E0-1786-4ED8-8E82-98462AB9F935}"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D07B6D-870B-4B9B-8997-1222724174B1}"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2B2313-6A6A-45A4-A4B9-40A61A62C1D7}"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6E3563-52B0-44DA-A55A-36FF2D41318A}"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C58461-A3F3-48A6-9571-89CC4BE7DF4B}"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1B20C9-5D1F-4700-9849-C86C63DB1F7F}"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E948E51-A0B5-430C-A6F4-753C648C56D4}"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372134-CC61-426E-8B4B-91245382EB9D}"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CE9D78-962F-4924-BB12-7FEC1296C17E}"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966C21-5AB7-4C91-94DC-F80F881E7359}"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F4E47F0-5116-4314-A32C-D1F7D1D66AE5}"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924B46-4F20-4C85-A100-681DF2A74E4E}"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2A8A488-23B2-4B35-B0B7-CFBDE68D1A0D}"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74D7DA-239F-48EE-B1F8-1F924F34C237}"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9854D3-B77D-4277-A795-877894AC7D44}"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BF7276-6BBF-4EE9-A290-D759AB0D92D7}"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F69427-4DFE-4907-A2F4-58CE9F422885}"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93727F-793D-4697-82C8-CCC1D96E5FD0}"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E8BBDC-721C-442B-A706-166CFD6905F4}"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256CFD-08D7-4789-95A9-48357DB520F4}"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1D68FF-36A1-4DE8-9FF8-0C827C53B407}"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3B726A-83D7-4667-9F96-25A95EDE8F1E}"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9FEF0F-560F-479A-A165-377516EC65D7}"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285305-2B85-4C00-A219-98E66693F728}"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30D42C-F621-4EA2-A613-237177189370}"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41287E-0EAB-4CB8-A1EC-3B53FC8AFC11}"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49F249-8684-43C3-888D-2A75AF445EB1}"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844B95-2865-483F-BCB0-145629C1B51D}"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579A25C-58C7-4B94-86DA-C345215AC731}"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47684F-26C0-4D32-8D3C-BF51F24065D5}"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E8B22A-A084-4522-95DF-F7FF8E4ED4FC}"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93CF47-EDDE-474E-AEF2-664839050134}"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6EC8CC-5635-4A96-A231-80824F7CFF59}"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AFF444-DA17-4FC0-9712-90EAEEF2F626}"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F6E9D5-4396-4FD7-AC3C-36D78FE18882}"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BB539C-02AF-4D6C-B564-52FBDAB11658}"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1497A0-B906-4AD5-953E-6C127A7FE2F4}"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1CEF64-41BC-459C-A14D-878D9828E45B}"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292F7F-C139-4F3F-8D94-99556C64467B}"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90DCFA-A349-4D00-8A66-440C6D2E9B73}"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54C453-641C-4EC6-8EE8-BBD757D57A0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22FDFC-FDCF-4701-B467-EE7F4B312C19}"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68C19B-F567-449D-8EEC-3BCA806CE69F}"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3E819D-FCC2-464F-961D-DC3666E71F52}"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07818F-E44B-4888-B56A-5BE713AD95B2}"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6D34C6-3964-4B5E-A9F5-C12712BF9B9C}"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8EB4FF-5A55-4D53-B886-12F5CD55BD11}"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800CE2-19F8-4C65-B3FA-7972CDB00CFD}"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DB751C-DCE6-483D-8AE3-56FCB2AE4BA9}"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DEE1F8-6EAB-49A4-93AE-23271257A880}"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E7220C-974A-4F7E-96D5-46D783ABC81E}"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6A760B-2D41-413A-BD61-DA818C289809}"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D0413D-3CD5-484A-8332-6346243EFF96}"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CC26CF-9216-431E-B643-80E6D4AEDD39}"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2DC848-9E63-4083-9FFA-FDB317BA74E2}"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F7D983-49A6-4BC4-9E77-673402FFACE6}"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62C6FD8-38E9-405E-A737-0F6F3A545AEC}"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7651F8-306C-4194-BBF4-681B3F12753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5AA36F-4E99-4902-8B1F-8DA9FE65D1A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503410-AD72-4918-952D-C7103449E08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C4ADB5-4ECC-4066-9E90-78FE653C71E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5E12FA-92CA-4BCD-B588-48446FAFD63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AFB998-72EE-4166-8877-49B67555926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6128D6F-4949-46EB-A2E1-7847D195B20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C9A16F-0613-438D-B5DE-476225FEE29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71E56D-54F9-4400-9542-1AC0E6E03C2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6341A7-4390-4937-980D-B7EA9F8D410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230AA3-F02B-4C98-BAA8-A8316397BE1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6C1052-F4BC-49F4-B1F6-8AA8B93A746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1D54AF-C7AF-4926-82E8-316DBB69228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0190B4-8F0F-4F37-B6AA-56D6B7AC12B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9EB730-1D09-4C31-AB99-8BCB157FD24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F445A6-5CA4-4EA5-B4AE-94FBBDECF60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9BBD8C-B734-4A53-8A76-A39278F825E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526ABF-D303-4C7B-943A-70ACD9208CF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06D3BC-2E79-4617-A231-A15655E8006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02C975-DADA-4607-A768-4FF4EAEB9AA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E18A03-BAE3-47BA-9810-15281BDECA3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E055ED-5EC3-417F-86A5-59EE864778E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02E656-879F-4963-91D2-585C74D511D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9D7081-FC30-450A-9D25-6F478C77B3C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A7F3AF-02BF-4C81-97DA-774B3A0BA93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D35CC1-1316-4B54-95C3-A0BE41D973D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7C6A03-6D82-4302-BC74-C30EEEC531D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A99DC7-CFD3-440F-9AFA-6692AF3B75C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81B977-1C74-489A-A4D1-4636F9417F8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D09600-E7EA-4C46-8797-964739CFE1A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E24A58-A307-4C34-AEC2-71958B5BF18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81BFBC-6073-4F69-95C9-BC2AD1E66F6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717390-3AFE-4132-8D91-BFCF92A3820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879543-E634-4954-9B49-0B513CB1538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8070CC-1B35-4D48-A5F1-43A1A802420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019243-73FF-40A1-81D3-F4E2419A6EE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2EFC71-B4C7-4556-B5EC-40E7538C9B9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8AA6E8-B3DB-4F0F-9827-21013274052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EDC139-6BDC-44B0-96E9-0668EAD26BE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B2F51F-F092-4618-BDF0-CBB92A6164F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829642-74A1-432B-9516-F73A41A3A20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69FE85-5C4E-4D12-AAB9-BD70A7DEBDB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33021E-B44E-407D-B90D-F76E8F8A2B2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2AA34B-812D-4A55-8630-EC29C5D6F9C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0E716E-4420-4F71-A3FD-CA28A823D1A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4269A1-83C4-47DD-9DB8-BE847B5F25F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E099DF-C25B-4A8B-A8FD-A5C18799497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5844987-9530-4450-8453-FEAD6157F9D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274CBF-3A2A-4C50-B337-4B72DB6A2C0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D95FD0-3C35-48AB-B3E5-4828FF39582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7A0CB7-2AC7-4D7E-BD26-D6D8A5DE4E9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13A87B-A20A-4FF0-BFDD-C4D81B3ED9C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B93774-E142-4E80-B29C-0ACB43388E3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4FDA89-6C67-43AF-BEBB-71CE29E2EBE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3B0BBD-84E8-4C00-B0F4-CB8034817CC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68D47A-4E1C-44AE-85EF-C65B14E2165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7E6000E-94E1-409A-85BD-13961B53ADA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534B5B-6FFF-4293-9CD5-2777A3F72EE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5F42EE-80E2-4DF9-9C4F-1B52ACACD4D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989681-0AA9-4496-B431-219847005B7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19A31C-C9B0-464A-9BA7-E3991C9B0D8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C2F358-64FA-4CD6-BA4E-97C96E8FBF1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9471B6-7C2C-4662-A5CA-D1E784199A0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0C823C-ACF2-4CEB-8D06-58F2955054F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24EA01-7083-4203-8841-DDB232A8C17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DF57E7-82A2-49D9-94D7-4D4F807E2A6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864798-7BA9-4191-AF46-CF36E1B9E00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B96CBF-6809-4FB5-B645-74D15E75D38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EED4FA-0311-4A04-B292-A7F76184DC2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01762D-DF67-4725-8277-10943E89AD8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DDEE8C-D5B0-4A30-88B1-A16B2355ABB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C2FECC8-59F9-41AE-A7DA-DF877EF78FE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EE0FBA-7C3E-47F8-B547-E6C8E3DA5AD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CA5D11-B689-4459-B55A-C9D82C9A18A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3254EA-118A-4C65-A923-CDA9AE3C999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762E91-EB8C-48B3-9D56-A47A7DFD0A9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6B544A-F88F-4B96-9D8C-5D301CD7992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74A2A9-1AB8-4A66-93AA-5BB50EFC0B2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437E76-476C-4BA3-8C3C-BFC693490B2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A28047-F3CC-4752-B663-23A711C70A7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93E6F3-B46C-4399-8E7D-AFAE87CEC82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EC69CA-6F1D-40E5-AC05-F4108837122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E185ED-B708-4158-BA84-582F1738FA4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36310E-660C-484F-8A8D-E712DB11CF5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B6085D-B1E1-4C2B-8FA8-25D8F0DED8F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