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59362"/>
        <c:axId val="41704128"/>
      </c:barChart>
      <c:catAx>
        <c:axId val="71659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04128"/>
        <c:crosses val="autoZero"/>
        <c:auto val="1"/>
        <c:lblAlgn val="ctr"/>
        <c:lblOffset val="100"/>
        <c:noMultiLvlLbl val="0"/>
      </c:catAx>
      <c:valAx>
        <c:axId val="41704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59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52F-EAB2-474C-89B1-2BF46CFB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41D-0722-4E30-B24E-EC05893E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EC9-10B8-4C72-8F61-C59AC9A0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AE6-2B2B-4D8C-A82E-5239C37C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8BD-1183-434A-9975-385D04F7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32D-FCB2-4D27-87EC-48DD6B7B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8BA-FA21-4938-AC1D-3B9BB69F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B67-5AB4-4E47-B2BA-CDD0AE62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669-92B9-4187-ADA7-9F7C78C5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3D0-C703-4D08-AA78-1E661F2C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D99-8AC6-4E19-A640-459A18C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286-F08D-43A0-BF36-BE20C65A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5700E-8FCE-456A-9223-DCD260C225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