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83701"/>
        <c:axId val="6902845"/>
      </c:barChart>
      <c:catAx>
        <c:axId val="60483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2845"/>
        <c:crosses val="autoZero"/>
        <c:auto val="1"/>
        <c:lblAlgn val="ctr"/>
        <c:lblOffset val="100"/>
        <c:noMultiLvlLbl val="0"/>
      </c:catAx>
      <c:valAx>
        <c:axId val="6902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83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11E-61A1-4ACF-AE47-192E89A2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563-B0F8-495F-96CC-BDE7DF91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2FF-3672-42CA-8D99-DB2A2B5F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D99-E206-4394-8B29-017C37DB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BC9-F4E5-47EB-9B06-4B93C763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851-2FA2-4705-A79C-CDAF5F89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A4E-EA40-4E77-9914-DC0E7C50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2C1-1C28-4BFF-9C00-D5466BA1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679-6EE7-4372-A664-0904137B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CF4-303A-4448-BEF5-08D94C8E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4D9-3DDF-4FEE-9B9B-E8AAAECE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A0E-7AC0-4E54-B8C5-32EB1900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9BA94-5768-4D54-970A-6A989966E5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