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59864"/>
        <c:axId val="32695208"/>
      </c:barChart>
      <c:catAx>
        <c:axId val="82459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95208"/>
        <c:crosses val="autoZero"/>
        <c:auto val="1"/>
        <c:lblAlgn val="ctr"/>
        <c:lblOffset val="100"/>
        <c:noMultiLvlLbl val="0"/>
      </c:catAx>
      <c:valAx>
        <c:axId val="32695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59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C21-11C8-483A-856F-3E95FF84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BE1B-4DD6-4BB4-B206-FF42ED2B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016-517D-473E-97E7-C0ECDAFCA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DC8-3C29-4F84-83D9-6B71CE30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674-644B-4B1D-B537-4B86C26D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978-37E3-4611-8095-57A9BF67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E7AB-C23F-4281-A516-304B875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28F-6D79-40FE-BB87-B2A566E4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979-18CC-4C79-A8AF-01341583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D42-757E-453A-A73D-7F2C00B0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DC2-6F60-4AFB-96FF-3857997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670-9DEB-4B75-ABB9-195D779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1D0A8-3285-4062-9418-A8457EC0F4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