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130680"/>
        <c:axId val="64795373"/>
      </c:barChart>
      <c:catAx>
        <c:axId val="641306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95373"/>
        <c:crosses val="autoZero"/>
        <c:auto val="1"/>
        <c:lblAlgn val="ctr"/>
        <c:lblOffset val="100"/>
        <c:noMultiLvlLbl val="0"/>
      </c:catAx>
      <c:valAx>
        <c:axId val="647953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306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6543-CF62-4E9F-8C09-FF1BB256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2912-BE1B-4315-9356-391D61AC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7A3A-706B-4DB0-BD58-1E731F07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EAE4-0B2B-4965-B27E-4A38E958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DB7B-9253-4B49-8695-60CB2731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BDE9-E440-4C43-83BE-643D2E46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5D9B-E265-4E74-AEF7-FB3D1BC3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21C2-0304-4123-8626-15A55C3A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7DB1-B091-4F3A-A6BB-B3835535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D04A-0155-43B5-8211-C6E914D3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BE1F-B83A-4AEA-9DAA-EA2DD3EE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D996-3655-4892-B09E-5F00BEE0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66D2A-AA51-45FB-97DB-519B71C232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