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36343"/>
        <c:axId val="43604126"/>
      </c:barChart>
      <c:catAx>
        <c:axId val="5436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04126"/>
        <c:crosses val="autoZero"/>
        <c:auto val="1"/>
        <c:lblAlgn val="ctr"/>
        <c:lblOffset val="100"/>
        <c:noMultiLvlLbl val="0"/>
      </c:catAx>
      <c:valAx>
        <c:axId val="43604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6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5A9-9435-47E3-8E77-6E3F067B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79EC-ACCF-4F90-9198-7A7F9ED8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AD2-3F81-463A-9027-3C1B2D5D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A7F-A444-480E-9AA8-CB39E862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06F-FF83-4359-8070-BFCDA288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84C-AF0C-49BB-B710-CF00E7A7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23C3-CF33-496A-AB0E-11981797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432-238E-4D24-9C88-6976DC23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73D-860B-4438-A5F7-090F825D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ED0-AEB4-402A-93DD-057DE480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01A0-B4F2-4159-A986-042C45D5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91B7-9972-4C53-8F21-A3DC82E1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79849-7F47-4B6B-9CDC-AF7C2F1BB3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