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22.pct" ContentType="image/x-pict"/>
  <Override PartName="/ppt/media/image13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7.png" ContentType="image/png"/>
  <Override PartName="/ppt/media/image6.png" ContentType="image/png"/>
  <Override PartName="/ppt/media/image4.jpeg" ContentType="image/jpeg"/>
  <Override PartName="/ppt/media/image23.png" ContentType="image/png"/>
  <Override PartName="/ppt/media/image21.png" ContentType="image/png"/>
  <Override PartName="/ppt/media/image1.pct" ContentType="image/x-pict"/>
  <Override PartName="/ppt/media/image19.jpeg" ContentType="image/jpeg"/>
  <Override PartName="/ppt/media/image2.pct" ContentType="image/x-pict"/>
  <Override PartName="/ppt/media/image5.png" ContentType="image/png"/>
  <Override PartName="/ppt/media/image10.png" ContentType="image/png"/>
  <Override PartName="/ppt/media/image20.png" ContentType="image/png"/>
  <Override PartName="/ppt/media/image18.png" ContentType="image/png"/>
  <Override PartName="/ppt/media/image16.jpeg" ContentType="image/jpeg"/>
  <Override PartName="/ppt/media/image15.png" ContentType="image/png"/>
  <Override PartName="/ppt/media/image14.png" ContentType="image/png"/>
  <Override PartName="/ppt/media/image3.png" ContentType="image/png"/>
  <Override PartName="/ppt/media/image1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29080-A041-433A-A719-FF9952AAE3A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liris: parallel dense linear solv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elos: next-generation iterative linear solve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aps: domain decomposition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eros: segregated block preconditio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533520"/>
            <a:ext cx="777240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ct"/><Relationship Id="rId3" Type="http://schemas.openxmlformats.org/officeDocument/2006/relationships/image" Target="../media/image2.pct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2" marL="1085760" indent="-171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3" marL="1542960" indent="-17136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4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5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6" marL="1943280" indent="-1144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565360" cy="1460520"/>
          </a:xfrm>
          <a:prstGeom prst="rect">
            <a:avLst/>
          </a:prstGeom>
          <a:ln w="0">
            <a:noFill/>
          </a:ln>
        </p:spPr>
      </p:pic>
      <p:sp>
        <p:nvSpPr>
          <p:cNvPr id="2" name=""/>
          <p:cNvSpPr/>
          <p:nvPr/>
        </p:nvSpPr>
        <p:spPr>
          <a:xfrm>
            <a:off x="803160" y="1447920"/>
            <a:ext cx="761688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7924680" y="6324480"/>
            <a:ext cx="1105200" cy="4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2.pct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oleObject" Target="../embeddings/oleObject1.bin"/><Relationship Id="rId7" Type="http://schemas.openxmlformats.org/officeDocument/2006/relationships/image" Target="../media/image10.png"/><Relationship Id="rId8" Type="http://schemas.openxmlformats.org/officeDocument/2006/relationships/image" Target="../media/image11.jpeg"/><Relationship Id="rId9" Type="http://schemas.openxmlformats.org/officeDocument/2006/relationships/image" Target="../media/image3.png"/><Relationship Id="rId10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3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3.png"/><Relationship Id="rId7" Type="http://schemas.openxmlformats.org/officeDocument/2006/relationships/image" Target="../media/image15.png"/><Relationship Id="rId8" Type="http://schemas.openxmlformats.org/officeDocument/2006/relationships/image" Target="../media/image3.png"/><Relationship Id="rId9" Type="http://schemas.openxmlformats.org/officeDocument/2006/relationships/slideLayout" Target="../slideLayouts/slideLayout5.xml"/><Relationship Id="rId10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: A Python Interface to Trilinos, a Set of Object-Oriented Solver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2742840"/>
            <a:ext cx="64008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ill Spotz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National Laboratori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ciPy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asadena, CA    22 Sep 2005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With special thanks to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rzio Sala, Eric Phipps, Alfred Lorber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100"/>
                </a:solidFill>
                <a:latin typeface="Arial"/>
              </a:rPr>
              <a:t>Mike Heroux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, Jim Willenbring and Mike Phenow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934320" y="1295280"/>
            <a:ext cx="2158920" cy="144144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ztecOO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228240" y="16761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Krylov subspace solvers: CG, GMRES, BiCGStab…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ncomplete factorization precondition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 is the workhorse solver at Sandia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xtracted from MPSalsa reacting flow cod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ozens of Sandia applicat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900+ external licen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mproves on Aztec by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ing Epetra objec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roviding more preconditioners/scalin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nabling more sophisticated OO us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ztecOO interfaces allow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ntinued use of Aztec for functionalit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roduction of new solver capabilities outside of Azte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6924600" y="1295280"/>
            <a:ext cx="2143080" cy="171612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IFPACK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492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lgebraic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Overlapping Schwarz preconditioners with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complete factorizations</a:t>
            </a: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, block relaxations, block direct solv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bstract matrix interface (including Epetra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eparates graph construction from factorization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le with AztecOO, ML, Ames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by NOX and M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ML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Multi-level preconditioner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moothed aggreg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grid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omain decompo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mpatibiliti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ccepts any implementation of Epetra_RowMatrix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Implements Epetra_Operator interface . . . AztecOO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an be used completely independent of other Trilinos packa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7620120" y="1295280"/>
            <a:ext cx="1422360" cy="182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mes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Distributed sparse direct solv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hallenge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any third-party direct solvers availab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Different APIs, data format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 can change with version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Amesos offer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ingle, consistent interfac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ommon look and feel for all class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eparation from specific solver detail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nal data redistribu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hird-party packages: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LAPACK, KLU, UMFPACK, SuperLU, SuperLU_DIST, MUMPS, ScaLAPACK, DSCPACK, PARDISO, WSMP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NOX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ite of nonlinear solution method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 abstract vector and “group” interfac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llows flexible selection and tuning of directions and line search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bstract vector &amp; group interfaces for Epetra, AztecOO, ML, LAPACK and PETSc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rolled by flexible parameter list objec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LOC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brary of Continuation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ntinuation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ero-order, first-order, arc length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ulti-parameter, turning point, phase transi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itchfork- and Hopf-bifurc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value approximation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RPACK or Anasazi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70866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Ext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tensions to Epetra . . . useful, but nonessential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39480" indent="-1699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xamples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/matrix view extrac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Zoltan interfa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transpo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ingleton removal, static condensation fil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Overlapped graph constru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Graph coloring algorithm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lab, MatrixMarket I/O function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78600" indent="-2260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Etc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Anasazi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0948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Eigensolvers written in templated C++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Generic interface to a collection of algorithm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terfaces are derived from vector and operator base clas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6629400" y="1371600"/>
            <a:ext cx="2384280" cy="69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euch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tility package of useful tool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Includ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APLACK, BLAS wrapp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Dense matrix &amp; vector class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LOP counters, tim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Reference-counted pointe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rameter lis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Us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Templates, STL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6248520" y="1371600"/>
            <a:ext cx="2841480" cy="54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Triutil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Trilinos Utilities (intended for test harness, but sometimes useful elsewhere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trix Galler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mmand-line pars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put file reader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Outlin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otivation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hilosophy &amp; Infrastructur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An Overview of PyTrilino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ackag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Performanc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ummary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5638680" y="2057400"/>
            <a:ext cx="2330640" cy="13003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5943600" y="389088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5181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interface to selected Trilinos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, AztecOO, IFPACK, ML, Amesos, NOX, LOCA, EpetraExt, TriUtils (and New_Package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es SWIG to generate wrapp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rerequisit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ython 2.3 or high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wig 1.3.23 or bett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1681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hon build system integrated into Trilinos </a:t>
            </a:r>
            <a:r>
              <a:rPr b="1" lang="en-US" sz="2000" spc="-1" strike="noStrike">
                <a:solidFill>
                  <a:srgbClr val="4040c0"/>
                </a:solidFill>
                <a:latin typeface="Courier New"/>
              </a:rPr>
              <a:t>configure/ make 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ystem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uilding Trilinos is not for the compiler-shy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o build PyTrilinos, simply ad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enable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or 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--with-python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 to the configure invocation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faces will be built for enabled packages w/wrapper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Courier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call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wig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and the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setup.py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distutil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71760" indent="-223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My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kefileVariables</a:t>
            </a: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 modul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04920" y="1980720"/>
            <a:ext cx="86868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Epetra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PI_Init, MPI_Finalize for MPI build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Epetra.SerialComm or Epetra.MpiComm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ize =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* comm.NumProc(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Scaled problem size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p = Epetra.Map(size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One of several constructors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 = Epetra.Vector(map)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v1 is also a Numeric array!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Print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.shape = 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v1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 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MyPID           GID               Value  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0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1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2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       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0             3                       0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[ 0.  0.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ae00"/>
                </a:solidFill>
                <a:latin typeface="Courier New"/>
              </a:rPr>
              <a:t>[ 0.  0.]]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mesos (Triutils, Epetra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685800" y="15235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yTrilinos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0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blem = Epetra.LinearProblem(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StartingSolution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       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GetRHS()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factory = Amesos.Factory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factory.Create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SuperLU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proble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amesosList = {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Timing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PrintStatu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: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True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}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Parameters(amesosList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ymbol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NumericFactoriza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olve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n = problem.GetL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print</a:t>
            </a:r>
            <a:r>
              <a:rPr b="1" lang="en-US" sz="1400" spc="-1" strike="noStrike">
                <a:solidFill>
                  <a:srgbClr val="4040c0"/>
                </a:solidFill>
                <a:latin typeface="Courier New"/>
              </a:rPr>
              <a:t>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||x_computed||_2 =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soln.Norm2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62012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.AztecOO (and IFPACK)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380520" y="1980720"/>
            <a:ext cx="853452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from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PyTrilinos </a:t>
            </a:r>
            <a:r>
              <a:rPr b="1" lang="en-US" sz="1400" spc="-1" strike="noStrike">
                <a:solidFill>
                  <a:srgbClr val="800080"/>
                </a:solidFill>
                <a:latin typeface="Courier New"/>
              </a:rPr>
              <a:t>import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IFPACK, AztecOO, Triutils, Epetra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comm = Epetra.PyComm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 = Triutils.CrsMatrixGallery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laplace_2d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comm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x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gallery.Set(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”ny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8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matrix = gallery.GetMatrix(),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lhs    = gallery.GetStartingSolution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hs    = gallery.GetRHS(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PACK.PrintSparsity(matrix, </a:t>
            </a:r>
            <a:r>
              <a:rPr b="1" lang="en-US" sz="1400" spc="-1" strike="noStrike">
                <a:solidFill>
                  <a:srgbClr val="996633"/>
                </a:solidFill>
                <a:latin typeface="Courier New"/>
              </a:rPr>
              <a:t>"matrix.ps"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 = AztecOO.AztecOO(matrix, lhs, rhs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olver,          AztecOO.AZ_cg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precond,         AztecOO.AZ_dom_decomp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subdomain_solve, AztecOO.AZ_ilu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SetAztecOption(AztecOO.AZ_graph_fill,     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            )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olver.Iterate(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50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1" lang="en-US" sz="1400" spc="-1" strike="noStrike">
                <a:solidFill>
                  <a:srgbClr val="0000ff"/>
                </a:solidFill>
                <a:latin typeface="Courier New"/>
              </a:rPr>
              <a:t>1e-5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)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# Max iteration = 50, tolerance = 1e-5</a:t>
            </a:r>
            <a:endParaRPr b="1" lang="en-US" sz="1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2"/>
          <a:stretch/>
        </p:blipFill>
        <p:spPr>
          <a:xfrm>
            <a:off x="5257800" y="2057400"/>
            <a:ext cx="3720960" cy="420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MATLAB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51920" y="1676160"/>
            <a:ext cx="4800600" cy="380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ense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to fill 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 diagonal matrix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CPU sec for 100 MatVec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3" name=""/>
          <p:cNvGraphicFramePr/>
          <p:nvPr/>
        </p:nvGraphicFramePr>
        <p:xfrm>
          <a:off x="5029200" y="1523880"/>
          <a:ext cx="3657600" cy="133956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4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3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47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85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4" name=""/>
          <p:cNvGraphicFramePr/>
          <p:nvPr/>
        </p:nvGraphicFramePr>
        <p:xfrm>
          <a:off x="5029200" y="2971800"/>
          <a:ext cx="3809880" cy="2009520"/>
        </p:xfrm>
        <a:graphic>
          <a:graphicData uri="http://schemas.openxmlformats.org/drawingml/2006/table">
            <a:tbl>
              <a:tblPr/>
              <a:tblGrid>
                <a:gridCol w="1143000"/>
                <a:gridCol w="1219320"/>
                <a:gridCol w="1447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0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01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39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44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6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0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3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.9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60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5" name=""/>
          <p:cNvGraphicFramePr/>
          <p:nvPr/>
        </p:nvGraphicFramePr>
        <p:xfrm>
          <a:off x="4191120" y="5106960"/>
          <a:ext cx="3657600" cy="1674720"/>
        </p:xfrm>
        <a:graphic>
          <a:graphicData uri="http://schemas.openxmlformats.org/drawingml/2006/table">
            <a:tbl>
              <a:tblPr/>
              <a:tblGrid>
                <a:gridCol w="838080"/>
                <a:gridCol w="1371600"/>
                <a:gridCol w="14479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TLAB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05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28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5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3.13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78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2.72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7.15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46748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 vs Trilino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3049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Fin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ourse-grained script: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graphicFrame>
        <p:nvGraphicFramePr>
          <p:cNvPr id="179" name=""/>
          <p:cNvGraphicFramePr/>
          <p:nvPr/>
        </p:nvGraphicFramePr>
        <p:xfrm>
          <a:off x="4495680" y="1752480"/>
          <a:ext cx="4267440" cy="1675080"/>
        </p:xfrm>
        <a:graphic>
          <a:graphicData uri="http://schemas.openxmlformats.org/drawingml/2006/table">
            <a:tbl>
              <a:tblPr/>
              <a:tblGrid>
                <a:gridCol w="1295640"/>
                <a:gridCol w="1282680"/>
                <a:gridCol w="1689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yTrilin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00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01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11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4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0.28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23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 algn="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,000,0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.92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171360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c00100"/>
                          </a:solidFill>
                          <a:latin typeface="Arial"/>
                        </a:rPr>
                        <a:t>11.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4468680" y="3657600"/>
            <a:ext cx="3456000" cy="2770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 Performa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Some Trilinos packages are designed for users to derive classes from pure virtual base class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Operato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petra_RowMatri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OX::Abstract::Interface . . .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Numerical kernels (matvecs, nonlinear function evaluations) are therefore written by user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Using PyTrilinos, numerical kernels are therefore written in python (fine-grained . . . bad)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lnSpc>
                <a:spcPct val="90000"/>
              </a:lnSpc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If efficiency is a consideration,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array slice syntax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s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weave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efficient code is 20-100x slower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Summary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533160" y="1828440"/>
            <a:ext cx="8001000" cy="4419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Trilinos is a major software development project at Sandia National Laboratori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Interoperable, independent, object-oriented, parallel, sparse linear and nonlinear solver package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elease 6.0: September, 2005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99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040c0"/>
                </a:solidFill>
                <a:latin typeface="Arial"/>
              </a:rPr>
              <a:t>PyTrilinos provides python access to selected packages</a:t>
            </a:r>
            <a:endParaRPr b="1" lang="en-US" sz="20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Numeric compatibility (NumArray?)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Still in early stages . . . portability, guinea pigs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Parallelism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Rapid prototyp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Unit testing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pplication development</a:t>
            </a:r>
            <a:endParaRPr b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7391520" y="0"/>
            <a:ext cx="1752480" cy="174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Sandia does LOTS of solver work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Challeng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de reuse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Leverage development across pro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nsistent API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ASCI SQA/SQE requiremen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Bringing object-oriented tools to scientific computing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Frameworks, inheritance, operator overloading…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Motiva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51920" y="1600200"/>
            <a:ext cx="3124440" cy="457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DEs and Circuit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rcRect l="0" t="0" r="0" b="38332"/>
          <a:stretch/>
        </p:blipFill>
        <p:spPr>
          <a:xfrm>
            <a:off x="304920" y="5867280"/>
            <a:ext cx="5000400" cy="81936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3429000" y="3962520"/>
            <a:ext cx="1770120" cy="17780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304920" y="2133720"/>
            <a:ext cx="1719000" cy="154296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4"/>
          <a:stretch/>
        </p:blipFill>
        <p:spPr>
          <a:xfrm>
            <a:off x="2514600" y="2133720"/>
            <a:ext cx="1576440" cy="158904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4800600" y="1523880"/>
            <a:ext cx="3494160" cy="2212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" name=""/>
          <p:cNvGraphicFramePr/>
          <p:nvPr/>
        </p:nvGraphicFramePr>
        <p:xfrm>
          <a:off x="304920" y="3962520"/>
          <a:ext cx="2709720" cy="162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65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04920" y="3962520"/>
                    <a:ext cx="2709720" cy="162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66" name="" descr=""/>
          <p:cNvPicPr/>
          <p:nvPr/>
        </p:nvPicPr>
        <p:blipFill>
          <a:blip r:embed="rId8"/>
          <a:stretch/>
        </p:blipFill>
        <p:spPr>
          <a:xfrm>
            <a:off x="6019920" y="4038480"/>
            <a:ext cx="3016080" cy="274320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9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Evolving Trilinos Solution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66680" y="5486400"/>
            <a:ext cx="6782040" cy="533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</a:t>
            </a:r>
            <a:r>
              <a:rPr b="1" lang="en-US" sz="1800" spc="-1" strike="noStrike" baseline="30000">
                <a:solidFill>
                  <a:srgbClr val="4040c0"/>
                </a:solidFill>
                <a:latin typeface="Arial"/>
              </a:rPr>
              <a:t>1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is an evolving framework to address these challen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Fundamental atomic unit is a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</a:rPr>
              <a:t>packag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cludes core set of vector, graph and matrix classes (Epetra/Tpetra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common abstract solver API (Thyr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ovides a ready-made package infrastructure (new_package package)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ource code management (cvs, bonsai, bugzilla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Build tools (autotool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utomated regression testing (~20 builds, 5+ platforms, &gt;3000 te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ommunication tools (mailman mail list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Specifies requirements and suggested practices for package SQA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In general allows us to categorize effort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the Trilinos level (useful to most or all packages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fforts best done at a package level (peculiar or important to a package)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llows package developers to focus only on things that are unique to </a:t>
            </a:r>
            <a:br>
              <a:rPr sz="1600"/>
            </a:b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heir package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623160" y="6248520"/>
            <a:ext cx="40320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1. Trilinos loose translation: “A string of pearls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440" y="533520"/>
            <a:ext cx="7543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Development Team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804960" y="1523880"/>
            <a:ext cx="2395440" cy="487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ss Bartlet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Bogg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Thy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odd Coffe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Rythm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ason Cro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David D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Clark Dohrman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CLA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Ge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ob Heaph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rilinos SQ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ke Herou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Project Lead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, AztecOO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Kokkos, Komplex, IFPACK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mesos, Belos, EpetraExt, J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Ulrich Hetmaniu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657600" y="1523880"/>
            <a:ext cx="1847880" cy="518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bert Hoeks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EpetraEx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Thyra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ussell Hoo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NO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Vicki Howl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hy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nathan H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Sarah Knepp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Komplex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Tammy Kold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oe Kotulsk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liri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ich Lehoucq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Anasazi and Bel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vin Lo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Thyra,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oger Pawlowsk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ichael Phenow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Webmast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6095880" y="1523880"/>
            <a:ext cx="2495520" cy="472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Eric Phipp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LOCA and NOX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Marzio Sa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Didasko and IFPA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ML, Ames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ndrew Salinger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LOC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Paul Sext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Tpetra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Bill Spotz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PyTrilin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Ken Stanley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mesos and New_Packa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Heidi Thornqui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Anasazi, Belos and Teuch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Ray Tuminar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Lead Developer of ML  and Mer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Jim Willenbrin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 and New_Package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Trilinos library manager</a:t>
            </a: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Narrow"/>
              </a:rPr>
              <a:t>Alan William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 Narrow"/>
              </a:rPr>
              <a:t>Developer of Epetra, EpetraExt, AztecOO, Tpe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2133720" y="1676520"/>
            <a:ext cx="1600200" cy="5331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213372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ztecO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809880" y="2286000"/>
            <a:ext cx="1600200" cy="533520"/>
          </a:xfrm>
          <a:prstGeom prst="rect">
            <a:avLst/>
          </a:prstGeom>
          <a:solidFill>
            <a:srgbClr val="618ff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mes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13372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PA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9880" y="2895480"/>
            <a:ext cx="1600200" cy="533520"/>
          </a:xfrm>
          <a:prstGeom prst="rect">
            <a:avLst/>
          </a:prstGeom>
          <a:solidFill>
            <a:srgbClr val="00ae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133720" y="4114800"/>
            <a:ext cx="1600200" cy="533520"/>
          </a:xfrm>
          <a:prstGeom prst="rect">
            <a:avLst/>
          </a:prstGeom>
          <a:solidFill>
            <a:srgbClr val="ff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133720" y="4724280"/>
            <a:ext cx="1600200" cy="5335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O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28600" y="16765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Linear Algebr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Servi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28600" y="22860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18ffd"/>
                </a:solidFill>
                <a:latin typeface="Arial"/>
              </a:rPr>
              <a:t>Linear 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228600" y="28954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ae00"/>
                </a:solidFill>
                <a:latin typeface="Arial"/>
              </a:rPr>
              <a:t>Precondition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28600" y="35053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igen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41148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Nonlinea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8000"/>
                </a:solidFill>
                <a:latin typeface="Arial"/>
              </a:rPr>
              <a:t>Solve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28600" y="472428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Continu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Algorithm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988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petraEx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486400" y="5943600"/>
            <a:ext cx="1600200" cy="533520"/>
          </a:xfrm>
          <a:prstGeom prst="rect">
            <a:avLst/>
          </a:prstGeom>
          <a:solidFill>
            <a:srgbClr val="8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iutil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5334120"/>
            <a:ext cx="182880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Abstr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ff"/>
                </a:solidFill>
                <a:latin typeface="Arial"/>
              </a:rPr>
              <a:t>Interfac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28600" y="5943600"/>
            <a:ext cx="18288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0080"/>
                </a:solidFill>
                <a:latin typeface="Arial"/>
              </a:rPr>
              <a:t>Util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6" name=""/>
          <p:cNvGrpSpPr/>
          <p:nvPr/>
        </p:nvGrpSpPr>
        <p:grpSpPr>
          <a:xfrm>
            <a:off x="2133720" y="1676520"/>
            <a:ext cx="6629400" cy="4800600"/>
            <a:chOff x="2133720" y="1676520"/>
            <a:chExt cx="6629400" cy="4800600"/>
          </a:xfrm>
        </p:grpSpPr>
        <p:sp>
          <p:nvSpPr>
            <p:cNvPr id="97" name=""/>
            <p:cNvSpPr/>
            <p:nvPr/>
          </p:nvSpPr>
          <p:spPr>
            <a:xfrm>
              <a:off x="21337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euch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133720" y="3505320"/>
              <a:ext cx="1600200" cy="53316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Arial"/>
                </a:rPr>
                <a:t>Anasaz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2133720" y="5334120"/>
              <a:ext cx="1600200" cy="53316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hy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3809880" y="5334120"/>
              <a:ext cx="1600200" cy="53316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TSFCor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486400" y="5334120"/>
              <a:ext cx="1600200" cy="533160"/>
            </a:xfrm>
            <a:prstGeom prst="rect">
              <a:avLst/>
            </a:prstGeom>
            <a:blipFill rotWithShape="0">
              <a:blip r:embed="rId4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CoreUtil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80988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kk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86400" y="1676520"/>
              <a:ext cx="1600200" cy="533160"/>
            </a:xfrm>
            <a:prstGeom prst="rect">
              <a:avLst/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Komple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86400" y="2286000"/>
              <a:ext cx="1600200" cy="533520"/>
            </a:xfrm>
            <a:prstGeom prst="rect">
              <a:avLst/>
            </a:prstGeom>
            <a:solidFill>
              <a:srgbClr val="618ff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Pliri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162920" y="2286000"/>
              <a:ext cx="1600200" cy="533520"/>
            </a:xfrm>
            <a:prstGeom prst="rect">
              <a:avLst/>
            </a:prstGeom>
            <a:blipFill rotWithShape="0">
              <a:blip r:embed="rId5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Bel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548640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Clap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162920" y="2895480"/>
              <a:ext cx="1600200" cy="533520"/>
            </a:xfrm>
            <a:prstGeom prst="rect">
              <a:avLst/>
            </a:prstGeom>
            <a:solidFill>
              <a:srgbClr val="00ae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Mero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7162920" y="5334120"/>
              <a:ext cx="1600200" cy="533160"/>
            </a:xfrm>
            <a:prstGeom prst="rect">
              <a:avLst/>
            </a:prstGeom>
            <a:blipFill rotWithShape="0">
              <a:blip r:embed="rId6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</a:rPr>
                <a:t>TSFExtended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162920" y="5943600"/>
              <a:ext cx="1600200" cy="533520"/>
            </a:xfrm>
            <a:prstGeom prst="rect">
              <a:avLst/>
            </a:prstGeom>
            <a:solidFill>
              <a:srgbClr val="800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Arial"/>
                </a:rPr>
                <a:t>Didask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876920" y="4114800"/>
              <a:ext cx="1600200" cy="533520"/>
            </a:xfrm>
            <a:prstGeom prst="rect">
              <a:avLst/>
            </a:prstGeom>
            <a:blipFill rotWithShape="0">
              <a:blip r:embed="rId7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6629400" y="4114800"/>
              <a:ext cx="1981080" cy="533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= Next-Generatio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5410080" y="3962520"/>
            <a:ext cx="2133720" cy="838080"/>
          </a:xfrm>
          <a:prstGeom prst="rect">
            <a:avLst/>
          </a:prstGeom>
          <a:noFill/>
          <a:ln w="38160">
            <a:solidFill>
              <a:srgbClr val="c001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PyTrili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8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09120" y="533520"/>
            <a:ext cx="678204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Interoperability &amp; Dependence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Although most Trilinos packages have no explicit dependence, each package must interact with </a:t>
            </a:r>
            <a:r>
              <a:rPr b="1" i="1" lang="en-US" sz="1800" spc="-1" strike="noStrike">
                <a:solidFill>
                  <a:srgbClr val="4040c0"/>
                </a:solidFill>
                <a:latin typeface="Arial"/>
              </a:rPr>
              <a:t>som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other packages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NOX needs operator, vector and solve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AztecOO needs preconditioner, matrix, operator and vector objects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Interoperability is enabled at configure time.  For example, NOX: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lapac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LAPACK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epetra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Epetra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17136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Courier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--enable-nox-petsc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ile NOX/PETSc interface libraries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171720">
              <a:spcBef>
                <a:spcPts val="45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Trilinos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r>
              <a:rPr b="1" lang="en-US" sz="1800" spc="-1" strike="noStrike">
                <a:solidFill>
                  <a:srgbClr val="4040c0"/>
                </a:solidFill>
                <a:latin typeface="Arial"/>
              </a:rPr>
              <a:t> script is vehicle for:</a:t>
            </a:r>
            <a:endParaRPr b="1" lang="en-US" sz="18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Establishing interoperability of Trilinos components…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ithout compromising individual package autonomy.</a:t>
            </a: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4040c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6858000" y="1295280"/>
            <a:ext cx="2193840" cy="1322640"/>
          </a:xfrm>
          <a:prstGeom prst="rect">
            <a:avLst/>
          </a:prstGeom>
          <a:ln w="0">
            <a:noFill/>
          </a:ln>
        </p:spPr>
      </p:pic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533520"/>
            <a:ext cx="77724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100"/>
                </a:solidFill>
                <a:latin typeface="Arial"/>
              </a:rPr>
              <a:t>Trilinos Packages: Epetra</a:t>
            </a:r>
            <a:endParaRPr b="1" lang="en-US" sz="2800" spc="-1" strike="noStrike">
              <a:solidFill>
                <a:srgbClr val="c001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Petra: “foundation” (E for “essential”)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marL="343080" indent="-171720">
              <a:spcBef>
                <a:spcPts val="601"/>
              </a:spcBef>
              <a:buClr>
                <a:srgbClr val="4040c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0c0"/>
                </a:solidFill>
                <a:latin typeface="Arial"/>
              </a:rPr>
              <a:t>Linear Algebra Services</a:t>
            </a:r>
            <a:endParaRPr b="1" lang="en-US" sz="2400" spc="-1" strike="noStrike">
              <a:solidFill>
                <a:srgbClr val="4040c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Communicators: encapsulate parallelism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Maps: describe distribution of LA object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ectors/multivector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graph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Sparse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Base classes for operators and matric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Arial"/>
              </a:rPr>
              <a:t>Views and copies</a:t>
            </a:r>
            <a:endParaRPr b="1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6813720" y="0"/>
            <a:ext cx="2330280" cy="130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4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8-24T20:21:27Z</dcterms:created>
  <dc:creator>William Spotz</dc:creator>
  <dc:description/>
  <dc:language>en-US</dc:language>
  <cp:lastModifiedBy>William Spotz</cp:lastModifiedBy>
  <dcterms:modified xsi:type="dcterms:W3CDTF">2005-09-12T21:15:01Z</dcterms:modified>
  <cp:revision>86</cp:revision>
  <dc:subject/>
  <dc:title>PyTrilinos: A Python Interface to Trilinos, a Set of Object-Oriented Solver Packages</dc:title>
</cp:coreProperties>
</file>